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gif" ContentType="image/gif"/>
  <Override PartName="/ppt/media/image1.png" ContentType="image/png"/>
  <Override PartName="/ppt/media/image2.jpeg" ContentType="image/jpeg"/>
  <Override PartName="/ppt/media/image7.png" ContentType="image/png"/>
  <Override PartName="/ppt/media/image12.png" ContentType="image/png"/>
  <Override PartName="/ppt/media/image4.jpeg" ContentType="image/jpeg"/>
  <Override PartName="/ppt/media/image8.png" ContentType="image/png"/>
  <Override PartName="/ppt/media/image16.wmf" ContentType="image/x-wmf"/>
  <Override PartName="/ppt/media/image5.png" ContentType="image/png"/>
  <Override PartName="/ppt/media/image10.png" ContentType="image/png"/>
  <Override PartName="/ppt/media/image3.gif" ContentType="image/gif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825A-B31F-4386-BC43-41FEF0875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CBF5-627B-4E2D-8E49-14BCBB3B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793F-0626-469A-AF0E-0A812898C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62C4-2F68-460C-B984-13FBC1891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7A6F-AFE5-4E90-AAD8-E6735E206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0044-78E2-49D7-BBA3-C4375D3E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499C-42BB-4FAC-9FC3-65A7D7BE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7D11-94EA-4B35-9436-03FF78A6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B769-E278-4F50-B9C7-678054A6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D232-E80B-4823-B86C-18D01274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0D25-2E1E-4E23-BE1B-B7DCEBE7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D9D0-340D-47AA-9D55-26356475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17811-3EDC-4B1E-A1CB-AD39872A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4D41-4992-43E9-BD2F-12A87AAB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5109-F1ED-488D-AC69-87150FA7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EFF1-DC43-4DAC-9D3B-D5BE1C781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D267-E29F-4A39-BBA7-CC56A8858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9C96-AA51-4C0F-BD7E-A3E103AB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6F0D-FFCA-4E09-820A-1E53BC97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5198-99F4-4D06-A6B4-0AA317C8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EEA0-7C66-4E11-B3AF-724542E0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AC52-F0E5-47A5-BF9D-A9F4F507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FB73-3643-42F9-832E-2BFB22F2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8F18-4AC6-440C-B02C-A7DCA5C2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E926-08F3-4CB2-8182-A188CB6D8D7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9B05-8679-4F7F-9D31-F244C228D79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3.xml"/><Relationship Id="rId9" Type="http://schemas.openxmlformats.org/officeDocument/2006/relationships/slide" Target="slide14.xml"/><Relationship Id="rId10" Type="http://schemas.openxmlformats.org/officeDocument/2006/relationships/slide" Target="slide23.xml"/><Relationship Id="rId1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Квадратные уравнения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50560" y="134136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66"/>
                </a:solidFill>
                <a:uFillTx/>
                <a:latin typeface="Tahoma"/>
                <a:hlinkClick r:id="rId1" action="ppaction://hlinksldjump"/>
              </a:rPr>
              <a:t>Кв. уравнения в Древнем Вавилон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66"/>
                </a:solidFill>
                <a:uFillTx/>
                <a:latin typeface="Tahoma"/>
                <a:hlinkClick r:id="rId2" action="ppaction://hlinksldjump"/>
              </a:rPr>
              <a:t>Кв. уравнения в Инд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вадратные уравнения в Европе 13-17 в.в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66"/>
                </a:solidFill>
                <a:uFillTx/>
                <a:latin typeface="Tahoma"/>
                <a:hlinkClick r:id="rId3" action="ppaction://hlinksldjump"/>
              </a:rPr>
              <a:t>Определе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66"/>
                </a:solidFill>
                <a:uFillTx/>
                <a:latin typeface="Tahoma"/>
                <a:hlinkClick r:id="rId4" action="ppaction://hlinksldjump"/>
              </a:rPr>
              <a:t>Неполные кв. уравн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66"/>
                </a:solidFill>
                <a:uFillTx/>
                <a:latin typeface="Tahoma"/>
                <a:hlinkClick r:id="rId5" action="ppaction://hlinksldjump"/>
              </a:rPr>
              <a:t>Полное кв. уравне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66"/>
                </a:solidFill>
                <a:uFillTx/>
                <a:latin typeface="Tahoma"/>
                <a:hlinkClick r:id="rId6" action="ppaction://hlinksldjump"/>
              </a:rPr>
              <a:t>Теорема Вие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еорема, обратная теореме Виет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66"/>
                </a:solidFill>
                <a:uFillTx/>
                <a:latin typeface="Tahoma"/>
                <a:hlinkClick r:id="rId7" action="ppaction://hlinksldjump"/>
              </a:rPr>
              <a:t>Кв. уравнения с комплексными переменны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шение кв. уравнений с помощью график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зложение кв. трехчлена на множител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66"/>
                </a:solidFill>
                <a:uFillTx/>
                <a:latin typeface="Tahoma"/>
                <a:hlinkClick r:id="rId8" action="ppaction://hlinksldjump"/>
              </a:rPr>
              <a:t>Применение кв. уравне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66"/>
                </a:solidFill>
                <a:uFillTx/>
                <a:latin typeface="Tahoma"/>
                <a:hlinkClick r:id="rId9" action="ppaction://hlinksldjump"/>
              </a:rPr>
              <a:t>Практику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66"/>
                </a:solidFill>
                <a:uFillTx/>
                <a:latin typeface="Tahoma"/>
                <a:hlinkClick r:id="rId10" action="ppaction://hlinksldjump"/>
              </a:rPr>
              <a:t>Заключе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bd71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dbbd71"/>
                </a:solidFill>
                <a:latin typeface="Arial"/>
              </a:rPr>
              <a:t>Кв. уравнения с комплексными переменными  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Arial"/>
                <a:hlinkClick r:id="rId1" action="ppaction://hlinksldjump"/>
              </a:rPr>
              <a:t>Главное меню</a:t>
            </a:r>
            <a:endParaRPr b="0" lang="en-US" sz="1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63007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начала рассмотрим простейшее кв. уравн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заданное число, а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неизвестное. На множестве действительных чисел это уравнени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На множестве комплексных чисел это уравнение всегда имеет корень.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ача1. Найти комплексные корни если а=-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)            Т.к.    =-1, то это уравнение можно записать в виде         , или                 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сюда, раскладывая левую часть на множители, получаем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вет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332000" y="1484280"/>
                <a:ext cx="4856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84240" y="2059920"/>
            <a:ext cx="276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1)Имеет один корень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=0, если а=0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2)Имеет два действительных корн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627280" y="2276640"/>
                <a:ext cx="69552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-20160" y="2275920"/>
            <a:ext cx="418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, если а&gt;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3)Не имеет действительных  корней, если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&lt;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250920" y="3141720"/>
                <a:ext cx="54288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116000" y="3141720"/>
                <a:ext cx="14292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500720" y="3141720"/>
                <a:ext cx="43164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5292720" y="3141720"/>
                <a:ext cx="66024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427640" y="3429000"/>
                <a:ext cx="189540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0" y="45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84360" y="3645000"/>
                <a:ext cx="63792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bd71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dbbd71"/>
                </a:solidFill>
                <a:latin typeface="Arial"/>
              </a:rPr>
              <a:t>Решение кв. уравнений с помощью графиков.          </a:t>
            </a:r>
            <a:r>
              <a:rPr b="0" lang="en-US" sz="1600" spc="-1" strike="noStrike">
                <a:solidFill>
                  <a:srgbClr val="dbbd71"/>
                </a:solidFill>
                <a:latin typeface="Arial"/>
              </a:rPr>
              <a:t>Главное меню</a:t>
            </a:r>
            <a:endParaRPr b="0" lang="en-US" sz="1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4495680" cy="58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Не используя формул квадратное уравнение можно решить графическим способом. Например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Решим уравнение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Для этого построим два графика(рис.1):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250920" y="2492280"/>
          <a:ext cx="2736360" cy="647640"/>
        </p:xfrm>
        <a:graphic>
          <a:graphicData uri="http://schemas.openxmlformats.org/drawingml/2006/table">
            <a:tbl>
              <a:tblPr/>
              <a:tblGrid>
                <a:gridCol w="328680"/>
                <a:gridCol w="347040"/>
                <a:gridCol w="343080"/>
                <a:gridCol w="345240"/>
                <a:gridCol w="347040"/>
                <a:gridCol w="346320"/>
                <a:gridCol w="346680"/>
                <a:gridCol w="332280"/>
              </a:tblGrid>
              <a:tr h="30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547640" y="1268280"/>
                <a:ext cx="91440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422280" y="1627920"/>
            <a:ext cx="669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)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2)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+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8080" y="1988280"/>
            <a:ext cx="367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1)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y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=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x</a:t>
            </a:r>
            <a:r>
              <a:rPr b="0" lang="ru-RU" sz="12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, квадратичная функция, график парабо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f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)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684360" y="2276640"/>
                <a:ext cx="218880" cy="18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70560" y="3283920"/>
            <a:ext cx="3341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2)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y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=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x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+1, линейная функция, график пряма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f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)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3573360"/>
                <a:ext cx="218880" cy="1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35" name=""/>
          <p:cNvGraphicFramePr/>
          <p:nvPr/>
        </p:nvGraphicFramePr>
        <p:xfrm>
          <a:off x="250920" y="3789360"/>
          <a:ext cx="2299680" cy="566280"/>
        </p:xfrm>
        <a:graphic>
          <a:graphicData uri="http://schemas.openxmlformats.org/drawingml/2006/table">
            <a:tbl>
              <a:tblPr/>
              <a:tblGrid>
                <a:gridCol w="552240"/>
                <a:gridCol w="582840"/>
                <a:gridCol w="582120"/>
                <a:gridCol w="582480"/>
              </a:tblGrid>
              <a:tr h="28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4356000" y="1773360"/>
            <a:ext cx="4381560" cy="3095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7439040" y="494100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Рисунок 1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31480" y="4507560"/>
            <a:ext cx="6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Ответ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755640" y="4581360"/>
                <a:ext cx="106668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;</m:t>
                    </m:r>
                    <m:r>
                      <m:t xml:space="preserve">x</m:t>
                    </m:r>
                    <m:r>
                      <m:t xml:space="preserve">≈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-168840" y="4868280"/>
            <a:ext cx="601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Абсциссы точек пересечения графиков и будет корнями уравн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Если графики пересекаются в двух точках, то уравнение имеет два корн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Если графики пересекаются в одной точке, то уравнение имеет один корен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Если графики не пересекаются, то уравнение корней не имее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bd71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dbbd71"/>
                </a:solidFill>
                <a:latin typeface="Arial"/>
              </a:rPr>
              <a:t>Разложение кв. трехчлена на множители      </a:t>
            </a:r>
            <a:r>
              <a:rPr b="0" lang="en-US" sz="1600" spc="-1" strike="noStrike">
                <a:solidFill>
                  <a:srgbClr val="dbbd71"/>
                </a:solidFill>
                <a:latin typeface="Arial"/>
              </a:rPr>
              <a:t>Главное меню</a:t>
            </a:r>
            <a:endParaRPr b="0" lang="en-US" sz="1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-360" y="836640"/>
            <a:ext cx="521964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Многочлен вида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ax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2+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bx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, где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- некоторые числа,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переменная, называется </a:t>
            </a: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квадратным трёхчленом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Пример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2+7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+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Квадратный трехчлен  разлагается на множители , где  и  корни трехчлена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Дано:                       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- квадратный трехчлен; и -корни его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Доказать</a:t>
            </a:r>
            <a:r>
              <a:rPr b="1" i="1" lang="en-US" sz="1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Доказательство</a:t>
            </a:r>
            <a:r>
              <a:rPr b="1" i="1" lang="en-US" sz="1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по теореме Виета следует,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900000" y="1557360"/>
                <a:ext cx="80028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116000" y="1700280"/>
                <a:ext cx="19526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476360" y="1989000"/>
                <a:ext cx="19526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79280" y="2565360"/>
                <a:ext cx="629604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b</m:t>
                                    </m:r>
                                  </m:num>
                                  <m:den>
                                    <m:r>
                                      <m:t xml:space="preserve">a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=&gt;</m:t>
                                </m:r>
                                <m:f>
                                  <m:num>
                                    <m:r>
                                      <m:t xml:space="preserve">b</m:t>
                                    </m:r>
                                  </m:num>
                                  <m:den>
                                    <m:r>
                                      <m:t xml:space="preserve">a</m:t>
                                    </m:r>
                                  </m:den>
                                </m:f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rPr>
                            <m:lit/>
                            <m:nor/>
                          </m:rPr>
                          <m:t xml:space="preserve">=&gt;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=&gt;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r>
                      <m:t xml:space="preserve">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д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Применение кв. уравнений</a:t>
            </a:r>
            <a:r>
              <a:rPr b="0" lang="en-US" sz="1600" spc="-1" strike="noStrike">
                <a:solidFill>
                  <a:srgbClr val="dbbd71"/>
                </a:solidFill>
                <a:latin typeface="Arial"/>
              </a:rPr>
              <a:t>                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Arial"/>
                <a:hlinkClick r:id="rId1" action="ppaction://hlinksldjump"/>
              </a:rPr>
              <a:t>Главное меню</a:t>
            </a:r>
            <a:endParaRPr b="0" lang="en-US" sz="1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-360" y="836280"/>
            <a:ext cx="73803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Решение квадратных уравнений широко применяется в других разделах математики: в разложении квадратного трехчлена, в исследовании квадратичной функции, в решении уравнений высших степеней, в решении текстовых задач и задач по геометрии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       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Некоторые уравнения высших степеней можно решить, сведя их к квадратному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) Иногда левую часть уравнения легко разложить на множители, из  которых каждый - многочлен не выше 2-ой степени. Тогда приравнивая каждый многочлен к нулю, решаем полученные уравнения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ПРИМЕР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2)  Если уравнение имеет вид ax2n+bxn+c= 0, его можно свести к квадратному, введя новую переменную   t = x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ПРИМЕР: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3)  В геометрии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Гипотенуза прямоугольного треугольника равна 10.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                      Найти катеты, если один из них на 2 см. больше другого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  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РЕШЕНИЕ: по теореме  Пифагора  a2+ b2= c2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    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Пусть х см.-1 катет, тогда (х+2) см.-2 катет.     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Составим уравнение:   x2+ (x+2)2= 102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                          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Пифагор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7451640" y="1413000"/>
            <a:ext cx="1428840" cy="1047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403280" y="3573360"/>
                <a:ext cx="97812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826920" y="3860640"/>
                <a:ext cx="21434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воспользуемся подставкой t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403280" y="4149720"/>
                <a:ext cx="88596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258920" y="2276640"/>
                <a:ext cx="136188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1835280" y="2781360"/>
                <a:ext cx="95220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5940360" y="4221000"/>
            <a:ext cx="1365480" cy="1584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bbd71"/>
                </a:solidFill>
                <a:latin typeface="Arial"/>
              </a:rPr>
              <a:t>Стр.1</a:t>
            </a: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                          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Практикум      </a:t>
            </a: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dbbd71"/>
                </a:solidFill>
                <a:latin typeface="Arial"/>
              </a:rPr>
              <a:t>  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Arial"/>
                <a:hlinkClick r:id="rId1" action="ppaction://hlinksldjump"/>
              </a:rPr>
              <a:t>Главное меню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Arial"/>
                <a:hlinkClick r:id="rId2" action="ppaction://hlinksldjump"/>
              </a:rPr>
              <a:t>              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403848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Неполные кв. уравне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lang="en-US" sz="1400" spc="-1" strike="noStrike" u="sng">
                <a:solidFill>
                  <a:srgbClr val="ffcc66"/>
                </a:solidFill>
                <a:uFillTx/>
                <a:latin typeface="Tahoma"/>
                <a:hlinkClick r:id="rId3" action="ppaction://hlinksldjump"/>
              </a:rPr>
              <a:t>Дале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5867280" y="1268280"/>
                <a:ext cx="851040" cy="13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9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9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256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79280" y="1197000"/>
                <a:ext cx="102888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9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9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1547640" y="1268280"/>
                <a:ext cx="139572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2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x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24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3132000" y="1268280"/>
                <a:ext cx="24004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e>
                      <m:e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t xml:space="preserve">±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-468360" y="24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179280" y="3645000"/>
                <a:ext cx="303876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</m:e>
                      <m:e>
                        <m:r>
                          <m:t xml:space="preserve">9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dbbd71"/>
                </a:solidFill>
                <a:latin typeface="Arial"/>
              </a:rPr>
              <a:t>Стр.2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                           Практикум                      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Arial"/>
                <a:hlinkClick r:id="rId1" action="ppaction://hlinksldjump"/>
              </a:rPr>
              <a:t>Главное меню</a:t>
            </a:r>
            <a:endParaRPr b="0" lang="en-US" sz="1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-360" y="836640"/>
            <a:ext cx="521964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Метод выделения полного квадрат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</a:t>
            </a:r>
            <a:r>
              <a:rPr b="0" lang="en-US" sz="1400" spc="-1" strike="noStrike" u="sng">
                <a:solidFill>
                  <a:srgbClr val="ffcc66"/>
                </a:solidFill>
                <a:uFillTx/>
                <a:latin typeface="Tahoma"/>
                <a:hlinkClick r:id="rId2" action="ppaction://hlinksldjump"/>
              </a:rPr>
              <a:t>Дале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324000" y="1197000"/>
                <a:ext cx="147636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rPr>
                            <m:lit/>
                            <m:nor/>
                          </m:rPr>
                          <m:t xml:space="preserve">:-5;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3" name="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2050920" y="1268280"/>
                <a:ext cx="1743120" cy="14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rPr>
                            <m:lit/>
                            <m:nor/>
                          </m:rPr>
                          <m:t xml:space="preserve">:3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995640" y="1197000"/>
                <a:ext cx="190512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e>
                        </m:rad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e>
                        </m:rad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rPr>
                            <m:lit/>
                            <m:nor/>
                          </m:rPr>
                          <m:t xml:space="preserve">:-4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250920" y="2997360"/>
                <a:ext cx="159048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9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9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2195640" y="3068640"/>
                <a:ext cx="200952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,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3,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,5</m:t>
                        </m:r>
                        <m:r>
                          <m:t xml:space="preserve">−</m:t>
                        </m:r>
                        <m:r>
                          <m:t xml:space="preserve">3,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,5</m:t>
                        </m:r>
                        <m:r>
                          <m:t xml:space="preserve">+</m:t>
                        </m:r>
                        <m:r>
                          <m:t xml:space="preserve">3,5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;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rPr>
                            <m:lit/>
                            <m:nor/>
                          </m:rPr>
                          <m:t xml:space="preserve">:-2;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dbbd71"/>
                </a:solidFill>
                <a:latin typeface="Arial"/>
              </a:rPr>
              <a:t>Стр.3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                        Практикум                       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Arial"/>
                <a:hlinkClick r:id="rId1" action="ppaction://hlinksldjump"/>
              </a:rPr>
              <a:t>Главное меню</a:t>
            </a:r>
            <a:endParaRPr b="0" lang="en-US" sz="1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450072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Решение кв. уравнений по формуле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-4ac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2" action="ppaction://hlinksldjump"/>
              </a:rPr>
              <a:t>Дале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95280" y="1484280"/>
                <a:ext cx="1108080" cy="24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корня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-b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D</m:t>
                                </m:r>
                              </m:e>
                            </m:ra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a</m:t>
                            </m:r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±</m:t>
                            </m:r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rPr>
                            <m:lit/>
                            <m:nor/>
                          </m:rPr>
                          <m:t xml:space="preserve">: -3; 0,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050920" y="1413000"/>
                <a:ext cx="1177920" cy="28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|</m:t>
                        </m:r>
                        <m:r>
                          <m:t xml:space="preserve">∗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e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корня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-b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D</m:t>
                                </m:r>
                              </m:e>
                            </m:ra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a</m:t>
                            </m:r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±</m:t>
                            </m:r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,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rPr>
                            <m:lit/>
                            <m:nor/>
                          </m:rPr>
                          <m:t xml:space="preserve">:-3,5;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5940360" y="1341360"/>
                <a:ext cx="2495520" cy="28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,3</m:t>
                        </m:r>
                        <m:r>
                          <m:t xml:space="preserve">|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e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корня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D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rad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±</m:t>
                            </m:r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rPr>
                            <m:lit/>
                            <m:nor/>
                          </m:rPr>
                          <m:t xml:space="preserve">:-3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3564000" y="1341360"/>
                <a:ext cx="1981080" cy="19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корня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t xml:space="preserve">±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>
            <a:off x="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250920" y="4508640"/>
                <a:ext cx="2057400" cy="15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2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5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корня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  <m:r>
                              <m:t xml:space="preserve">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rPr>
                            <m:lit/>
                            <m:nor/>
                          </m:rPr>
                          <m:t xml:space="preserve">:-8;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bbd71"/>
                </a:solidFill>
                <a:latin typeface="Arial"/>
              </a:rPr>
              <a:t>         </a:t>
            </a:r>
            <a:r>
              <a:rPr b="0" lang="en-US" sz="1000" spc="-1" strike="noStrike">
                <a:solidFill>
                  <a:srgbClr val="dbbd71"/>
                </a:solidFill>
                <a:latin typeface="Arial"/>
              </a:rPr>
              <a:t>Стр.4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                           Практикум                    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Arial"/>
                <a:hlinkClick r:id="rId1" action="ppaction://hlinksldjump"/>
              </a:rPr>
              <a:t>Главное меню</a:t>
            </a:r>
            <a:endParaRPr b="0" lang="en-US" sz="1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529272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Приведённые кв. уравнения. Теорема Виет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писать приведённое кв. уравнение, имеющее корни  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)                        2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3)                        4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Реш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спользуемся  т.Виет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Дале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4140360" y="1268280"/>
                <a:ext cx="43164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95280" y="1557360"/>
                <a:ext cx="91440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1692360" y="1557360"/>
                <a:ext cx="84780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95280" y="1989000"/>
                <a:ext cx="101916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1692360" y="1989000"/>
                <a:ext cx="92376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3" name=""/>
          <p:cNvSpPr/>
          <p:nvPr/>
        </p:nvSpPr>
        <p:spPr>
          <a:xfrm>
            <a:off x="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179280" y="2924280"/>
                <a:ext cx="101916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1547640" y="2924280"/>
                <a:ext cx="98136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7" name=""/>
          <p:cNvSpPr/>
          <p:nvPr/>
        </p:nvSpPr>
        <p:spPr>
          <a:xfrm>
            <a:off x="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2771640" y="2924280"/>
                <a:ext cx="114300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4140360" y="2924280"/>
                <a:ext cx="106668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6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bbd71"/>
                </a:solidFill>
                <a:latin typeface="Arial"/>
              </a:rPr>
              <a:t>Стр.5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                                  Практикум                     </a:t>
            </a:r>
            <a:r>
              <a:rPr b="0" lang="en-US" sz="1600" spc="-1" strike="noStrike">
                <a:solidFill>
                  <a:srgbClr val="dbbd71"/>
                </a:solidFill>
                <a:latin typeface="Arial"/>
              </a:rPr>
              <a:t>Главное меню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5076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Решение кв. уравнений по теореме обратной т. Виет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Дале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"/>
          <p:cNvSpPr/>
          <p:nvPr/>
        </p:nvSpPr>
        <p:spPr>
          <a:xfrm>
            <a:off x="115920" y="1340640"/>
            <a:ext cx="231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Составьте уравнение, есл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2195640" y="1413000"/>
                <a:ext cx="86652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252360" y="1627920"/>
            <a:ext cx="3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q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=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539640" y="1700280"/>
                <a:ext cx="144792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7" name=""/>
          <p:cNvSpPr/>
          <p:nvPr/>
        </p:nvSpPr>
        <p:spPr>
          <a:xfrm>
            <a:off x="252000" y="19882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539640" y="2060640"/>
                <a:ext cx="181944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9" name=""/>
          <p:cNvSpPr/>
          <p:nvPr/>
        </p:nvSpPr>
        <p:spPr>
          <a:xfrm>
            <a:off x="88560" y="2348640"/>
            <a:ext cx="69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Ответ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684360" y="2421000"/>
                <a:ext cx="95220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1" name=""/>
          <p:cNvSpPr/>
          <p:nvPr/>
        </p:nvSpPr>
        <p:spPr>
          <a:xfrm>
            <a:off x="3102120" y="1340640"/>
            <a:ext cx="231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Составьте уравнение, есл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5219640" y="1413000"/>
                <a:ext cx="83844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3349440" y="1627920"/>
            <a:ext cx="3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q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=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3635280" y="1700280"/>
                <a:ext cx="1095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3349080" y="19882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3635280" y="2060640"/>
                <a:ext cx="167652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3400200" y="2348640"/>
            <a:ext cx="69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Ответ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3924360" y="2421000"/>
                <a:ext cx="82872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"/>
          <p:cNvSpPr/>
          <p:nvPr/>
        </p:nvSpPr>
        <p:spPr>
          <a:xfrm>
            <a:off x="6126480" y="1340640"/>
            <a:ext cx="231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)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Составьте уравнение, есл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8244000" y="1341360"/>
                <a:ext cx="771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>
            <a:off x="6373800" y="1699560"/>
            <a:ext cx="3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q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=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6659640" y="1700280"/>
                <a:ext cx="105732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3" name=""/>
          <p:cNvSpPr/>
          <p:nvPr/>
        </p:nvSpPr>
        <p:spPr>
          <a:xfrm>
            <a:off x="6373440" y="19882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6659640" y="1989000"/>
                <a:ext cx="166680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5" name=""/>
          <p:cNvSpPr/>
          <p:nvPr/>
        </p:nvSpPr>
        <p:spPr>
          <a:xfrm>
            <a:off x="6424200" y="2275560"/>
            <a:ext cx="69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Ответ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7020000" y="2349360"/>
                <a:ext cx="82872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7" name=""/>
          <p:cNvSpPr/>
          <p:nvPr/>
        </p:nvSpPr>
        <p:spPr>
          <a:xfrm>
            <a:off x="149400" y="2707560"/>
            <a:ext cx="231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)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Составьте уравнение, есл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2268360" y="2708280"/>
                <a:ext cx="9622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396720" y="2996280"/>
            <a:ext cx="3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q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=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684360" y="3068640"/>
                <a:ext cx="13618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396360" y="335664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684360" y="3429000"/>
                <a:ext cx="183816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3" name=""/>
          <p:cNvSpPr/>
          <p:nvPr/>
        </p:nvSpPr>
        <p:spPr>
          <a:xfrm>
            <a:off x="448920" y="3715560"/>
            <a:ext cx="69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Ответ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1042920" y="3789360"/>
                <a:ext cx="82872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5" name=""/>
          <p:cNvSpPr/>
          <p:nvPr/>
        </p:nvSpPr>
        <p:spPr>
          <a:xfrm>
            <a:off x="3246480" y="2780640"/>
            <a:ext cx="231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)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Составьте уравнение, есл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5364000" y="2852640"/>
                <a:ext cx="9622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7" name=""/>
          <p:cNvSpPr/>
          <p:nvPr/>
        </p:nvSpPr>
        <p:spPr>
          <a:xfrm>
            <a:off x="3565440" y="3141000"/>
            <a:ext cx="3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q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=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3851280" y="3141720"/>
                <a:ext cx="137160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9" name=""/>
          <p:cNvSpPr/>
          <p:nvPr/>
        </p:nvSpPr>
        <p:spPr>
          <a:xfrm>
            <a:off x="3565080" y="349956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3851280" y="3500280"/>
                <a:ext cx="180036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1" name=""/>
          <p:cNvSpPr/>
          <p:nvPr/>
        </p:nvSpPr>
        <p:spPr>
          <a:xfrm>
            <a:off x="3473280" y="3788640"/>
            <a:ext cx="69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Ответ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4067280" y="3860640"/>
                <a:ext cx="94284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dbbd71"/>
                </a:solidFill>
                <a:latin typeface="Arial"/>
              </a:rPr>
              <a:t>Стр.6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                                Практикум                      </a:t>
            </a:r>
            <a:r>
              <a:rPr b="0" lang="en-US" sz="1600" spc="-1" strike="noStrike">
                <a:solidFill>
                  <a:srgbClr val="dbbd71"/>
                </a:solidFill>
                <a:latin typeface="Arial"/>
              </a:rPr>
              <a:t>Главное меню</a:t>
            </a:r>
            <a:endParaRPr b="0" lang="en-US" sz="1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69483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Решение задач с помощью кв. уравн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Процессы       Скорость  км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ч     Время  ч.   Расстояние  к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Поезд до задержки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150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Поезд после задержки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x+15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45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По расписанию      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x            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6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_____________________________________________________________________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Зная, что поезд был задержан на 1,5 часа, сост.у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ОДЗ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Дале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3851280" y="1484280"/>
                <a:ext cx="2761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3780000" y="1844640"/>
                <a:ext cx="4284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0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3851280" y="2276640"/>
                <a:ext cx="30492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0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1" name="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179280" y="3141720"/>
                <a:ext cx="3041640" cy="331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0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50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0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|</m:t>
                        </m:r>
                        <m:r>
                          <m:t xml:space="preserve">∗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5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900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0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00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50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|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0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225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225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неуд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ч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-время в пут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: поед был в пути 10ч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3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3780000" y="2924280"/>
                <a:ext cx="4665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Кв. уравнения в Древнем Вавилоне.     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Arial"/>
                <a:hlinkClick r:id="rId1" action="ppaction://hlinksldjump"/>
              </a:rPr>
              <a:t>Главное меню</a:t>
            </a:r>
            <a:endParaRPr b="0" lang="en-US" sz="1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550872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Необходимость решать уравнения  не только первой, но и второй степени ёщё в древности была вызвана потребностью решать задачи, связанные с нахождением площадей земельных участков и с земляными работами военного характера, а также с развитием астрономии и самой математики. Квадратные уравнения умели решать около 2000 лет до нашей веры вавилоняне. Применяя современную алгебраическую запись, можно сказать, что в их  клинописных текстах  встречаются, кроме неполных, и такие, например, полные квадратные уравнения: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Правило решения этих уравнений, изложенное в вавилонских текстах, совпадает с современным, однако неизвестно, каким образом дошли вавилоняне до этого правила. Почти все найденные до сих пор клинописные тексты приводя только задачи с решениями, изложенными в виде рецептов, без указаний относительно того, каким образом они были найдены. Несмотря на высокий уровень развития алгебры в Вавилонии, в клинописных текстах отсутствуют понятие отрицательного числа и общие методы решения квадратных уравнений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457880" y="-720"/>
            <a:ext cx="226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80"/>
                </a:solidFill>
                <a:latin typeface="Arial"/>
                <a:ea typeface="Times New Roman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babilo1" descr=""/>
          <p:cNvPicPr/>
          <p:nvPr/>
        </p:nvPicPr>
        <p:blipFill>
          <a:blip r:embed="rId2"/>
          <a:stretch/>
        </p:blipFill>
        <p:spPr>
          <a:xfrm>
            <a:off x="1258920" y="2205000"/>
            <a:ext cx="847800" cy="809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dbbd71"/>
                </a:solidFill>
                <a:latin typeface="Arial"/>
              </a:rPr>
              <a:t>Стр.7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                               Практикум                       </a:t>
            </a:r>
            <a:r>
              <a:rPr b="0" lang="en-US" sz="1600" spc="-1" strike="noStrike">
                <a:solidFill>
                  <a:srgbClr val="dbbd71"/>
                </a:solidFill>
                <a:latin typeface="Arial"/>
              </a:rPr>
              <a:t>Главное меню</a:t>
            </a:r>
            <a:endParaRPr b="0" lang="en-US" sz="1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-360" y="980640"/>
            <a:ext cx="615636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Решение задач с помощью кв. уравн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Процессы              Скорость  км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ч     Время  ч.   Расстояние  к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Вверх по реке  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10-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x                                            3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Вверх по протоку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                  10-x+1                                         1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V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течения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                                    x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притока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                                    x+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_____________________________________________________________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Зная, что скорость в стоячей воде равна 10 км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ч, сост.у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ОДЗ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Дале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3924360" y="1557360"/>
                <a:ext cx="4284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3924360" y="2060640"/>
                <a:ext cx="4284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1" name=""/>
          <p:cNvSpPr/>
          <p:nvPr/>
        </p:nvSpPr>
        <p:spPr>
          <a:xfrm>
            <a:off x="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219240" y="3500280"/>
                <a:ext cx="2727000" cy="257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num>
                          <m:den>
                            <m:r>
                              <m:t xml:space="preserve">9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31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9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72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601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601</m:t>
                                </m:r>
                              </m:e>
                            </m:rad>
                          </m:num>
                          <m:den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7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неуд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rPr>
                            <m:lit/>
                            <m:nor/>
                          </m:rPr>
                          <m:t xml:space="preserve">:3 км/ч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3564000" y="3645000"/>
                <a:ext cx="86364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rPr>
                        <m:lit/>
                        <m:nor/>
                      </m:rPr>
                      <m:t xml:space="preserve">9,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dbbd71"/>
                </a:solidFill>
                <a:latin typeface="Arial"/>
              </a:rPr>
              <a:t>Стр.8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                                Практикум                      </a:t>
            </a:r>
            <a:r>
              <a:rPr b="0" lang="en-US" sz="1600" spc="-1" strike="noStrike">
                <a:solidFill>
                  <a:srgbClr val="dbbd71"/>
                </a:solidFill>
                <a:latin typeface="Arial"/>
              </a:rPr>
              <a:t>Главное меню</a:t>
            </a:r>
            <a:endParaRPr b="0" lang="en-US" sz="1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6012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Решение задач с помощью кв. уравн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ыло           Изменилось         Стало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вый год        20000                200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x              20000+200x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торой год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20000+200x         200x+2x         20000+400x+2x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_____________________________________________________________________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ная, что за 2 года население около 22050, сост.ур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вет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Дале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6616800" y="2637000"/>
                <a:ext cx="10152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8" name=""/>
          <p:cNvSpPr/>
          <p:nvPr/>
        </p:nvSpPr>
        <p:spPr>
          <a:xfrm>
            <a:off x="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179280" y="2637000"/>
          <a:ext cx="2048040" cy="13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637000"/>
                    <a:ext cx="2048040" cy="13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179280" y="3716280"/>
                <a:ext cx="118764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5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неуд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dbbd71"/>
                </a:solidFill>
                <a:latin typeface="Arial"/>
              </a:rPr>
              <a:t>Стр.9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                                 Практикум                     </a:t>
            </a:r>
            <a:r>
              <a:rPr b="0" lang="en-US" sz="1600" spc="-1" strike="noStrike">
                <a:solidFill>
                  <a:srgbClr val="dbbd71"/>
                </a:solidFill>
                <a:latin typeface="Arial"/>
              </a:rPr>
              <a:t>Главное меню</a:t>
            </a:r>
            <a:endParaRPr b="0" lang="en-US" sz="1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5076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Решение кв. уравнений по формуле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k2-ac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324000" y="1341360"/>
                <a:ext cx="170496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6" name=""/>
          <p:cNvSpPr/>
          <p:nvPr/>
        </p:nvSpPr>
        <p:spPr>
          <a:xfrm>
            <a:off x="314280" y="2349360"/>
            <a:ext cx="16894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т.к.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&lt;0, то корней нет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Ответ: К.Н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2484360" y="1341360"/>
                <a:ext cx="1790640" cy="233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7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rad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eqArr>
                          <m:e>
                            <m:r>
                              <m:t xml:space="preserve">[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7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4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  <m:e>
                            <m:r>
                              <m:t xml:space="preserve">[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7</m:t>
                                </m:r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4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eqArr>
                        <m:r>
                          <m:t xml:space="preserve">[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2680920" y="3715560"/>
            <a:ext cx="69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Ответ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3276720" y="3645000"/>
                <a:ext cx="91440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</m:rad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1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5508720" y="1268280"/>
                <a:ext cx="171432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7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3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5003640" y="2133720"/>
                <a:ext cx="26384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rad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eqArr>
                          <m:e>
                            <m:r>
                              <m:t xml:space="preserve">[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  <m:e>
                            <m:r>
                              <m:t xml:space="preserve">[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eqAr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=&gt;</m:t>
                        </m:r>
                      </m:e>
                      <m:e/>
                    </m:eqArr>
                    <m:eqArr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e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e>
                    </m:eqAr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=&gt;</m:t>
                    </m:r>
                    <m:eqArr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e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5" name=""/>
          <p:cNvSpPr/>
          <p:nvPr/>
        </p:nvSpPr>
        <p:spPr>
          <a:xfrm>
            <a:off x="5344920" y="3572640"/>
            <a:ext cx="69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Ответ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5867280" y="3500280"/>
                <a:ext cx="9622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;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7" name=""/>
          <p:cNvSpPr/>
          <p:nvPr/>
        </p:nvSpPr>
        <p:spPr>
          <a:xfrm>
            <a:off x="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108000" y="3500280"/>
                <a:ext cx="2628720" cy="233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rad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eqArr>
                          <m:e>
                            <m:r>
                              <m:t xml:space="preserve">[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8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6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  <m:e>
                            <m:r>
                              <m:t xml:space="preserve">[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8</m:t>
                                </m:r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6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</m:eqAr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=&gt;</m:t>
                        </m:r>
                      </m:e>
                      <m:e/>
                    </m:eqArr>
                    <m:eqArr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eqAr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=&gt;</m:t>
                    </m:r>
                    <m:eqArr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9" name=""/>
          <p:cNvSpPr/>
          <p:nvPr/>
        </p:nvSpPr>
        <p:spPr>
          <a:xfrm>
            <a:off x="448920" y="5949360"/>
            <a:ext cx="69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Ответ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1042920" y="5877000"/>
                <a:ext cx="9619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1" name=""/>
          <p:cNvSpPr/>
          <p:nvPr/>
        </p:nvSpPr>
        <p:spPr>
          <a:xfrm>
            <a:off x="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6877080" y="3860640"/>
                <a:ext cx="2124000" cy="19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3" name=""/>
          <p:cNvSpPr/>
          <p:nvPr/>
        </p:nvSpPr>
        <p:spPr>
          <a:xfrm>
            <a:off x="7216560" y="5949360"/>
            <a:ext cx="69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Ответ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7812000" y="6021360"/>
                <a:ext cx="466920" cy="1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Заключение     </a:t>
            </a: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         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Arial"/>
                <a:hlinkClick r:id="rId1" action="ppaction://hlinksldjump"/>
              </a:rPr>
              <a:t>Главное меню</a:t>
            </a:r>
            <a:endParaRPr b="0" lang="en-US" sz="1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Делая этот доклад, я открыл для себя много интересного и нового о кв. уравнениях  чего не мог прочитать в учебнике. Например, я узнал о том, что ещё в древности люди пользовались ими не зная, что это –кв. уравнения. В наше время невозможно представить себе решение как  простейших , так и сложных  задач не только в математике, но и в других точных науках , без применения решения кв. уравне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Надеюсь и вы открыли для себя что-нибудь ново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                         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Кв. уравнения в Индии.          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Arial"/>
                <a:hlinkClick r:id="rId1" action="ppaction://hlinksldjump"/>
              </a:rPr>
              <a:t>Главное меню</a:t>
            </a:r>
            <a:endParaRPr b="0" lang="en-US" sz="1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55087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ачи на квадратные уравнения встречаются уже в 499 г. 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Древней Индии были распространены публичные соревнования в решении трудных задач.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одной из старинных индийских книг говорится по поводу таких соревнований следующее: "Как солнце блеском своим затмевает звезды, так ученый человек затмит славу другого в народных собраниях, предлагая и решая алгебраические задач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ача знаменитого   индийского математика  Бхаскары: 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ffff"/>
                </a:solidFill>
                <a:latin typeface="Tahoma"/>
              </a:rPr>
              <a:t>Обезьянок резвых стая</a:t>
            </a:r>
            <a:br>
              <a:rPr sz="1200"/>
            </a:br>
            <a:r>
              <a:rPr b="0" lang="ru-RU" sz="1200" spc="-1" strike="noStrike">
                <a:solidFill>
                  <a:srgbClr val="00ffff"/>
                </a:solidFill>
                <a:latin typeface="Tahoma"/>
              </a:rPr>
              <a:t> Всласть  поевши, развлекаясь.</a:t>
            </a:r>
            <a:br>
              <a:rPr sz="1200"/>
            </a:br>
            <a:r>
              <a:rPr b="0" lang="ru-RU" sz="1200" spc="-1" strike="noStrike">
                <a:solidFill>
                  <a:srgbClr val="00ffff"/>
                </a:solidFill>
                <a:latin typeface="Tahoma"/>
              </a:rPr>
              <a:t> Их в квадрате часть восьмая</a:t>
            </a:r>
            <a:br>
              <a:rPr sz="1200"/>
            </a:br>
            <a:r>
              <a:rPr b="0" lang="ru-RU" sz="1200" spc="-1" strike="noStrike">
                <a:solidFill>
                  <a:srgbClr val="00ffff"/>
                </a:solidFill>
                <a:latin typeface="Tahoma"/>
              </a:rPr>
              <a:t> На поляне забавлялась.</a:t>
            </a:r>
            <a:br>
              <a:rPr sz="1200"/>
            </a:br>
            <a:r>
              <a:rPr b="0" lang="ru-RU" sz="1200" spc="-1" strike="noStrike">
                <a:solidFill>
                  <a:srgbClr val="00ffff"/>
                </a:solidFill>
                <a:latin typeface="Tahoma"/>
              </a:rPr>
              <a:t> А 12 по лианам.....</a:t>
            </a:r>
            <a:br>
              <a:rPr sz="1200"/>
            </a:br>
            <a:r>
              <a:rPr b="0" lang="ru-RU" sz="1200" spc="-1" strike="noStrike">
                <a:solidFill>
                  <a:srgbClr val="00ffff"/>
                </a:solidFill>
                <a:latin typeface="Tahoma"/>
              </a:rPr>
              <a:t> Стали прыгать, повисая.</a:t>
            </a:r>
            <a:br>
              <a:rPr sz="1200"/>
            </a:br>
            <a:r>
              <a:rPr b="0" lang="ru-RU" sz="1200" spc="-1" strike="noStrike">
                <a:solidFill>
                  <a:srgbClr val="00ffff"/>
                </a:solidFill>
                <a:latin typeface="Tahoma"/>
              </a:rPr>
              <a:t> Сколько было обезьянок,</a:t>
            </a:r>
            <a:br>
              <a:rPr sz="1200"/>
            </a:br>
            <a:r>
              <a:rPr b="0" lang="ru-RU" sz="1200" spc="-1" strike="noStrike">
                <a:solidFill>
                  <a:srgbClr val="00ffff"/>
                </a:solidFill>
                <a:latin typeface="Tahoma"/>
              </a:rPr>
              <a:t> Ты  скажи мне, в этой стае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Tahoma"/>
              </a:rPr>
              <a:t>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012000" y="1125360"/>
            <a:ext cx="1218960" cy="17193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3059280" y="3284640"/>
            <a:ext cx="91440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2" name=""/>
          <p:cNvGraphicFramePr/>
          <p:nvPr/>
        </p:nvGraphicFramePr>
        <p:xfrm>
          <a:off x="2146320" y="-8705880"/>
          <a:ext cx="182520" cy="242697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42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5003640" y="-1684440"/>
          <a:ext cx="215640" cy="24269760"/>
        </p:xfrm>
        <a:graphic>
          <a:graphicData uri="http://schemas.openxmlformats.org/drawingml/2006/table">
            <a:tbl>
              <a:tblPr/>
              <a:tblGrid>
                <a:gridCol w="215640"/>
              </a:tblGrid>
              <a:tr h="24269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2146320" y="-8705880"/>
          <a:ext cx="182520" cy="242697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42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5219640" y="3068640"/>
            <a:ext cx="3313080" cy="2405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Квадратные уравнения в Европе 13-17 в.в.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Arial"/>
                <a:hlinkClick r:id="rId1" action="ppaction://hlinksldjump"/>
              </a:rPr>
              <a:t>Главное меню</a:t>
            </a:r>
            <a:endParaRPr b="0" lang="en-US" sz="1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980640"/>
            <a:ext cx="727236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Формулы решения квадратных уравнений в Европе были впервые  изложены в 1202 г. итальянским математиком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Леонардом Фибоначчи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. 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Общее правило решения квадратных уравнений, приведенных к единому каноническому виду х2+вх+с=0 , было сформулировано в Европе лишь в 1544 г.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Штифелем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.      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Вывод формулы решения квадратного уравнения  в общем виде имеется у Виета, однако Виет признавал только положительные корни. Лишь в 17 в. благодаря трудам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Декарта, Ньютона и других ученых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способ решения квадратных уравнений принимает современный вид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9036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                               </a:t>
            </a:r>
            <a:br>
              <a:rPr sz="2800"/>
            </a:b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                               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Определение</a:t>
            </a:r>
            <a:r>
              <a:rPr b="0" lang="en-US" sz="1600" spc="-1" strike="noStrike">
                <a:solidFill>
                  <a:srgbClr val="dbbd71"/>
                </a:solidFill>
                <a:latin typeface="Arial"/>
              </a:rPr>
              <a:t>                             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Arial"/>
                <a:hlinkClick r:id="rId1" action="ppaction://hlinksldjump"/>
              </a:rPr>
              <a:t>Главное меню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Arial"/>
                <a:hlinkClick r:id="rId2" action="ppaction://hlinksldjump"/>
              </a:rPr>
              <a:t>          </a:t>
            </a:r>
            <a:br>
              <a:rPr sz="2800"/>
            </a:b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536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Уравнение вида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ax2+bx+c=0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, где a, b, c - действительные числа, причем a не равно 0, называют квадратным уравнением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Если a = 1 , то    квадратное  уравнение    называют приведенным;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   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если a ¹ 1,  то    неприведенным . </a:t>
            </a:r>
            <a:br>
              <a:rPr sz="1000"/>
            </a:b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Числа a, b, c носят следующие названия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a -первый коэффициент, 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b - второй коэффициент, c - свободный член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Корни уравнения ax2+bx+c=0 находят по формуле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  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Выражение D = b2- 4ac называют </a:t>
            </a: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дискриминантом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квадратного уравнения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Если D &lt; 0, то уравнение не имеет действительных корней;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   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если D = 0, то уравнение имеет один действительный корень;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   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если D &gt; 0, то уравнение имеет два действительных корня.  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В случае, когда D = 0, иногда говорят, что квадратное уравнение  имеет два одинаковых корня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 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  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Используя обозначение D = b2- 4ac, можно переписать формулу в виде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Если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b = 2k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, то формула  принимает вид: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Итак,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k = b / 2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.</a:t>
            </a:r>
            <a:br>
              <a:rPr sz="2800"/>
            </a:b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Последняя формула особенно удобна в тех случаях, когда </a:t>
            </a: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b / 2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- целое число, т.е. коэффициент,     </a:t>
            </a: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- четное число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3708360" y="1916280"/>
            <a:ext cx="1467000" cy="514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4788000" y="3716280"/>
            <a:ext cx="1000080" cy="476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468360" y="4653000"/>
            <a:ext cx="4419720" cy="5144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900000" y="5229360"/>
            <a:ext cx="1428840" cy="5140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7"/>
          <a:stretch/>
        </p:blipFill>
        <p:spPr>
          <a:xfrm>
            <a:off x="6156360" y="2349360"/>
            <a:ext cx="1873080" cy="16941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8"/>
          <a:stretch/>
        </p:blipFill>
        <p:spPr>
          <a:xfrm>
            <a:off x="6156360" y="4365720"/>
            <a:ext cx="1863720" cy="201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Неполные кв. уравнения </a:t>
            </a:r>
            <a:r>
              <a:rPr b="0" lang="en-US" sz="1600" spc="-1" strike="noStrike">
                <a:solidFill>
                  <a:srgbClr val="dbbd71"/>
                </a:solidFill>
                <a:latin typeface="Arial"/>
              </a:rPr>
              <a:t>                  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Arial"/>
                <a:hlinkClick r:id="rId1" action="ppaction://hlinksldjump"/>
              </a:rPr>
              <a:t>Главное меню</a:t>
            </a:r>
            <a:endParaRPr b="0" lang="en-US" sz="1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529272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Если в квадратном уравнении </a:t>
            </a:r>
            <a:r>
              <a:rPr b="0" i="1" lang="ru-RU" sz="1000" spc="-1" strike="noStrike">
                <a:solidFill>
                  <a:srgbClr val="ffffff"/>
                </a:solidFill>
                <a:latin typeface="Tahoma"/>
              </a:rPr>
              <a:t>ax2+bx+c=0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второй коэффициент </a:t>
            </a:r>
            <a:r>
              <a:rPr b="0" i="1" lang="ru-RU" sz="10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или свободный член </a:t>
            </a:r>
            <a:r>
              <a:rPr b="0" i="1" lang="ru-RU" sz="1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равен нулю, то квадратное уравнение называется </a:t>
            </a:r>
            <a:r>
              <a:rPr b="0" i="1" lang="ru-RU" sz="1000" spc="-1" strike="noStrike">
                <a:solidFill>
                  <a:srgbClr val="ffffff"/>
                </a:solidFill>
                <a:latin typeface="Tahoma"/>
              </a:rPr>
              <a:t>неполным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.  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Неполные уравнения выделяют потому, что для отыскания их корней можно не пользоваться формулой корней квадратного уравнения - проще решить уравнение методом разложения его левой части на множители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1400" spc="-1" strike="noStrike">
                <a:solidFill>
                  <a:srgbClr val="ffcc00"/>
                </a:solidFill>
                <a:latin typeface="Tahoma"/>
              </a:rPr>
              <a:t>Способы решения неполных квадратных уравнений</a:t>
            </a:r>
            <a:r>
              <a:rPr b="1" lang="en-US" sz="1400" spc="-1" strike="noStrike">
                <a:solidFill>
                  <a:srgbClr val="ffcc00"/>
                </a:solidFill>
                <a:latin typeface="Tahoma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1)  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c = 0 , то уравнение примет вид  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x2+bx=0.                  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        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x( ax + b ) = 0 ,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        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x = 0 или ax + b = 0 ,        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x = -b : a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2)  b = 0, то уравнение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примет вид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x2 + c = 0 ,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x2  = -c : a ,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1  =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     или 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2 = -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3)</a:t>
            </a:r>
            <a:r>
              <a:rPr b="1" i="1" lang="en-US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 = 0 и c = 0 , то уравнение примет вид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ax2 = 0,                  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x =0.  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900000" y="4292640"/>
            <a:ext cx="314280" cy="3715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1979640" y="4292640"/>
            <a:ext cx="314280" cy="371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Полное квадратное уравнение    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Arial"/>
                <a:hlinkClick r:id="rId1" action="ppaction://hlinksldjump"/>
              </a:rPr>
              <a:t>Главное меню</a:t>
            </a:r>
            <a:endParaRPr b="0" lang="en-US" sz="1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52927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сли в квадратном уравнении второй коэффициент и свободный член не равны нулю, то такое уравнение называют полным квадратным уравнением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2590920" cy="2152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                                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Теорема Виета               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Arial"/>
                <a:hlinkClick r:id="rId1" action="ppaction://hlinksldjump"/>
              </a:rPr>
              <a:t>Главное меню</a:t>
            </a:r>
            <a:endParaRPr b="0" lang="en-US" sz="1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-360" y="765000"/>
            <a:ext cx="62276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Теорема.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Сумма корней приведённого квадратного уравнения равна второму коэффициенту, взятому с противоположным знаком, а произведение корней равно свободному члену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Доказательство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. Рассмотрим приведённое квадратное уравнение. Обозначим второй коэффициент буквой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, а свободный член - буквой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Дискриминант этого уравнения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равен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Пусть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gt;0 .Тогда это уравнение имеет два корня: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и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Найдём сумму и произведение корней: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771640" y="1557360"/>
                <a:ext cx="9813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x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348000" y="1916280"/>
                <a:ext cx="790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р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826920" y="2133720"/>
                <a:ext cx="95256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195640" y="2205000"/>
                <a:ext cx="101916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24000" y="2924280"/>
                <a:ext cx="361944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D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D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D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D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Теорема, обратная теореме Виета.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dbbd71"/>
                </a:solidFill>
                <a:latin typeface="Arial"/>
              </a:rPr>
              <a:t>   </a:t>
            </a:r>
            <a:r>
              <a:rPr b="0" lang="en-US" sz="1600" spc="-1" strike="noStrike" u="sng">
                <a:solidFill>
                  <a:srgbClr val="ffcc66"/>
                </a:solidFill>
                <a:uFillTx/>
                <a:latin typeface="Arial"/>
                <a:hlinkClick r:id="rId1" action="ppaction://hlinksldjump"/>
              </a:rPr>
              <a:t>Главное меню</a:t>
            </a:r>
            <a:endParaRPr b="0" lang="en-US" sz="1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360" y="980640"/>
            <a:ext cx="521964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Теорема.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Если числа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таковы, что их сумма равна –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, а произведение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равно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, то эти числа являются корнями уравнения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Доказательство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. По условию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=-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,а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mn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. Значит, уравнение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можно записать в виде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Подставив вместо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число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, получим: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Значит, число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является корнем уравнения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Аналогично можно показать, что число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так же является корнем уравнения: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По праву в стихах быть воспета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О свойствах корней теорема Виета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Что лучше, скажи, постоянства такого: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Умножишь ты корни и дробь уж готова: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В числителе С, в знаменателе А,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А сумма корней тоже дроби равна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Хоть с минусом дробь эта, что за беда-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i="1" lang="ru-RU" sz="1000" spc="-1" strike="noStrike">
                <a:solidFill>
                  <a:srgbClr val="ffffff"/>
                </a:solidFill>
                <a:latin typeface="Tahoma"/>
              </a:rPr>
              <a:t>В числителе b, в знаменателе a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492360" y="1484280"/>
                <a:ext cx="10004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x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356000" y="1773360"/>
                <a:ext cx="10033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x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547640" y="1989000"/>
                <a:ext cx="1476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79280" y="2349360"/>
                <a:ext cx="28861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108000" y="2997360"/>
                <a:ext cx="27432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1:47:03Z</dcterms:created>
  <dc:creator>Dron</dc:creator>
  <dc:description/>
  <dc:language>en-US</dc:language>
  <cp:lastModifiedBy>Dron</cp:lastModifiedBy>
  <dcterms:modified xsi:type="dcterms:W3CDTF">2004-03-23T10:34:54Z</dcterms:modified>
  <cp:revision>22</cp:revision>
  <dc:subject/>
  <dc:title>Квадратные уравнения</dc:title>
</cp:coreProperties>
</file>