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A1F-89B3-417B-99E9-E9F65A58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6CF-4BB7-4AC0-8054-A7B7B98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3BF-E595-4E10-AAA3-92F4D1C1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4DA-438A-46F3-A743-1372DE6D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EE67-7024-457E-9E0C-58A9EF86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26E-0E9C-42AB-B508-57ADB00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8F54-3D3E-40E1-89C7-8CD7EB82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B13-A0F0-4BCE-8F0C-3278168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4D8-59A6-43BF-9AEA-4A9204ED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0BF4-D3A4-4A19-A1F6-110EC2B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7056-DC67-4D55-BF31-597B0B4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872-F6A7-4BE9-9380-BB59D45C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1E4-061F-4992-907B-5AFE36F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56CA-D3B3-423A-9EF1-3CD8D04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33C-D637-43DD-B956-50767B0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2316-39B5-4D87-A6DC-D479AE63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272B-FAFF-4892-8448-5114C854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BE1-87CF-4E63-93B6-2738FDC8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ECB-B1E4-4136-AA57-A91D200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5D8-5A7C-4A31-A7A3-74AEB95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821-469A-4CA4-8B75-A433EC5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8AF-9500-4464-A462-6DCDE95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BEF-2D10-4CC8-BC0B-499CFC82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576-EDED-4D3E-874D-186518B6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DE4-4737-416A-9A77-8F9441D5404E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948-AF0B-4923-BE15-5EBA09A2208E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8000"/>
                </a:solidFill>
                <a:latin typeface="Arial Black"/>
              </a:rPr>
              <a:t>Управление персоналом и политика социальной ответственности в компании </a:t>
            </a:r>
            <a:r>
              <a:rPr b="0" lang="en-US" sz="3400" spc="-1" strike="noStrike">
                <a:solidFill>
                  <a:srgbClr val="808000"/>
                </a:solidFill>
                <a:latin typeface="Arial Black"/>
              </a:rPr>
              <a:t>Toyota.</a:t>
            </a:r>
            <a:endParaRPr b="0" lang="en-US" sz="3400" spc="-1" strike="noStrike">
              <a:solidFill>
                <a:srgbClr val="808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д) Участие в акционерном капитал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бережения для участия в приобретении ак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акционеров-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е) Дополнительное обеспечени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асса взаимопомощ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льготное кредитование по линии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ое довольствие после выхода на пенсию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фонды пожизненной рент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иобретение школьных учебников для детей 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41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2."Страхование непредвиденных случаев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545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а) Поддержка занятост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невыходы на работу с разрешения администраци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ащита доходов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олнительные выплаты при несчастных случаях на транспор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по программе "Счастливая жизнь в "Тойоте"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в связи с онкологически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нсии для детей с физическими отклонениям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6480" y="2349360"/>
            <a:ext cx="4457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в) Финансовая поддержка и взаимопомощь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арки от имени компани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латы и ссуды из фондов взаимопомощи по линии профсоюз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ание автомобил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норство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г) Консультирован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 общим юридическим вопросам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о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в связи с дорожными происшеств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одействие в поиске внешних консультантов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3."Досуг и общественная деятельность".</a:t>
            </a: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58572b"/>
                </a:solidFill>
                <a:uFillTx/>
                <a:latin typeface="Arial"/>
              </a:rPr>
              <a:t>а) Внерабочее время: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проведения выходных дне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отпуска летом и зимо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плаченные отпуска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967120" cy="200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2052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0" y="1844640"/>
            <a:ext cx="43545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б) Развитие способностей и контактов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молодежные встреч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азднества "Тойоты" и вечерин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екции живописи и каллиграф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граничные поездки при поддержке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ветеранов "Тойоты"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досуга в местах прожи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спортивных соревнова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лубы, программы оздоровления, дни здоровь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рубежные поездки на длительное врем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ездки в санатории; 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в общежитиях и на предприятия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библиоте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урсы по изучению английского язык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ружки по интересам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секц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и стадион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ренда спортивных сооруже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реабилитационный центр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ооружения для профсоюзной деятельности,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536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897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8572b"/>
                </a:solidFill>
                <a:uFillTx/>
                <a:latin typeface="Arial"/>
              </a:rPr>
              <a:t>в) Информационные службы: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газета «</a:t>
            </a: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oyota weekly</a:t>
            </a: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профсоюзная газета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"Тойоты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страхования и социальных новостей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библиотечное обслуживание.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197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Даже краткий обзор социальной активности компании "Тойота" доказывает гуманитарную направленность управления; признание того факта, что без соответствующих условий для развития личности и проявления ею своего физического, творческого и эмоционального потенциала не могут быть раскрыты мощные ресурсы конкурентноспособности, охватываемые понятием "человеческий фактор"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Японские компании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это не только хозяйственные единицы, но и в значительной мере социальные организации. Каждая фирма имеет собственную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корпоративную философию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упор в которой делается на такие понятия, как искренность, гармония, сотрудничество, вклад в улучшение жизни общества. Основные факторы, определяющие престиж компании в Японии, - ее правовой статус, контролируемая доля рынка, членство на бирже и корпоративная философия. Эти показатели являются более существенными, чем цена акций или уровень прибыльности. Престиж компании определяет ее доступ к внешним финансовым источникам, возможности привлечения ЧР с высоким потенциало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т престижа фирмы, на которую работает японец, в значительной мере зависит его признание в обществе. В общественном сознании трудовая жизнь равноценна личной, индивидуальное выживание и развитие человека зависят от выживания и развития предприятия, на котором он работает. В этих условиях работник отождествляет себя со своей фирмой и готов разделить ее судьб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Корпоративная философия находит отражение в иерархической структуре фирмы, системе организации труда, производства и управления. В отличие от традиционных принципов, направленных на обеспечение прибыльности хозяйственной единицы (формализация, специализация и разделение труда), при построении систем труда в Японии ориентируются на неформальность, гибкость и кооперацию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ий стиль управления базируется на убеждении, а не на принуждении работников. Начальник не выделяет себя из массы подчиненных, его задача не руководить работой, которую выполняют другие, а способствовать взаимодействию сотрудников, оказывать им необходимую поддержку и помощь, формировать гармоничные отношения. Как правило, в японских фирмах нет подробных должностных инструкций, а положения о структурных подразделениях носят общий характер. Сотрудник, направляемый на работу получает лишь справку о назначении, информирующую о том, что с такого-то числа он назначается в такой-то отдел на такой-то тарифный разряд, без указания конкретных обязанностей, сферы ответственности или срока работы. Поступив в подразделение, работник овладевает трудовыми операциями и особенностями межличностных отношений в коллективе при поддержке коллег по работе и непосредственного руководителя. Организация рабочего места и производственных помещений всемерно способствует коллективному труд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ого работника оценивают не по индивидуальной выработке, а по вкладу в работу коллектива и в совокупную производительность корпорации. Важными критериями оценки считаются: отношение к труду, аккуратность и пунктуальность, взаимодействие с коллегами, нацеленность на выполнение производственных програм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3354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Основные черты управления трудом на японских предприятиях следующ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ость распределения работ и ротаци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мобильность и долгосрочность обучения ЧР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использование механизмов, заинтересовывающих работников в результатах их труд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ая организация системы материального стимулирован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жесткая дисциплина на рабочем мес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риентация на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Эти особенности связаны с принципом долгосрочного найма, подкрепляются взаимным доверием работников и администрации, а также их стремлением к поддержанию гармоничных отношений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Сердцевиной японской системы управления является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В японских компаниях обычно существуют два уровня управления ЧР - уровень компании и индивидуальный уровень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На уровне компании отдел 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централизованное подразделение, занимающееся институцианализированными и формальными аспектами управления ЧР. Кроме того, он всеми возможными средствами помогает осуществлению этого руководства на индивидуальном уровне, на котором все работники компании, члены "семьи" - начальники, подчиненные и коллеги - должны заниматься личными и неформальными аспектами работы с ЧР, или, иными словами, гармонизацией межличностных отношений на местах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Центральное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ключевое положение службы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не зафиксировано организационно. Его устанавливают сами работники. Обычно они исходят из того, что их наняли работать на благо компании, а не выполнять определенную работу, что свидетельствует о преобладании групповой ориентации над индивидуальной. Они знают, что их будут переводить с одной работы на другую, из одного отдела в другой; что будет изменяться их статус и контроль, который группа осуществляет над ними. Неизменным остается их членство в организации. В этом смысле они чувствуют постоянный контроль со стороны отдела управления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Социальная работа на японских предприятиях</a:t>
            </a:r>
            <a:br>
              <a:rPr sz="2800"/>
            </a:b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ажной составляющей механизма управления ЧР в японских фирмах является разветвленная система социального развития. Это хорошо иллюстрирует пример компании “</a:t>
            </a:r>
            <a:r>
              <a:rPr b="0" lang="es-ES" sz="2000" spc="-1" strike="noStrike">
                <a:solidFill>
                  <a:srgbClr val="58572b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", система социального развития которой в качестве исходных параметров имеет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озрастной уровень работников от 18 до 75 лет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жизненный цикл работника с учетом семейной жизни: холост или не замужем - женитьба - строительство семьи - зрелость - подготовка к пожилому возрасту - наслаждение жизнью в старост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минирующие интересы на разных этапах: досуг и саморазвитие - женитьба и рождение детей - строительство дома - воспитание и обучение детей - подготовка к старости - женитьба дет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 соответствии с этим программы социального развития включают следующие направления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 Black"/>
              </a:rPr>
              <a:t>1. "К здоровой и полнокровной жизни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40000" y="2276640"/>
            <a:ext cx="5003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а) Жилищ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и жилищное строительство фирмы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для холосты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троительство и аренда квартир компанией. Помощь в личном жилищном строительств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сбережений для индивидуаль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ймы под жилищное строительство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ддержка Общества друзей жилищ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ые услуги компании и ее профсоюза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3933720"/>
            <a:ext cx="15098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601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дравоохранение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Медицинские расходы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по медицинскому обслуживанию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невыходом на работу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рождением ребенк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болезнью дет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хоронные расходы. Охрана здоровь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риодическая диспансеризац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держание физической формы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борьба с профессиональны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 уход после болезни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ход за больным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госпиталь "Тойоты"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ий центр компании, действующий на основе общей медицинской страховки (медицинские обследования, лечение детей сотрудников компании, лечение отдельных заболеваний, скорая помощь)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35900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3419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00720" y="1844640"/>
            <a:ext cx="426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г) Передвижение и условия труда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тирование проезда на работу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рабочей одежд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питания на работ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5338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в) Потребительские услуги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оллективные оптовые закупки товаров, продовольственные магазины на территории фирм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истема кредитных карточек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лан коллективных закупок семейного пользо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посреднических опера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мощь в приобретении, обслуживание и ремонте автомобил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32259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6:17:02Z</dcterms:created>
  <dc:creator>Янина</dc:creator>
  <dc:description/>
  <cp:keywords/>
  <dc:language>en-US</dc:language>
  <cp:lastModifiedBy>Янина</cp:lastModifiedBy>
  <dcterms:modified xsi:type="dcterms:W3CDTF">2007-05-04T10:24:3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