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9C69-1C50-4DD4-AE3C-ED4553EB7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C382-9448-4E2D-B120-5F4C88932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B515-454C-4B2E-A194-C4447EE87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A852-1E4A-42AE-BFB9-D46FE278B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D28D-3EA1-4F9F-A76F-28874D6A1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7096-C2B0-4FCF-A027-4D235791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78D5-601F-4EEF-8E7E-73ECCD1CB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CBD4-75CB-4FA5-B7F6-B91E3B4F1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2574-D7E3-4951-89CA-B387E166A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E986-B60A-484D-9CD9-C02B737E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1C26-8707-49A8-970F-1BE56354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2ABC-B2E6-4FAE-AB7B-6D357088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FE106-10D8-4E7A-9EEE-58D8E1B78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Автоматизированная информационная система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Работа с покупателями»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КР 00906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ели: Создание распределённой базы данных на базе платформы 1С, обеспечение взаимодействия с удалёнными магазинами, создание Интернет порт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бота пользователя в систе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525680" y="765000"/>
          <a:ext cx="5302080" cy="592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765000"/>
                    <a:ext cx="5302080" cy="592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рмы приложений 1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523280" cy="38955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826920" y="836640"/>
            <a:ext cx="51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ыгрузка накладной на удалённую торговую точку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рмы приложений 1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26920" y="836640"/>
            <a:ext cx="51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агрузка накладной на удалённой торговой точк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5810400" cy="15336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900000" y="3284640"/>
            <a:ext cx="5977080" cy="33606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900000" y="2924280"/>
            <a:ext cx="518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ечать ценников по подбору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а отправки сообщения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kontakt.aspx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08000" y="1149480"/>
            <a:ext cx="8928000" cy="4976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лавная форма при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55640" y="893880"/>
            <a:ext cx="7704000" cy="5778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значение и цели создаваемого программного комплекса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матизация хозяйственно – учётной деятельности предприятия посредством компьютеризации удалённых магазин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матизация работы с покупателями на удалённых торговых точка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матизация работы с покупателями через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та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оставление информации о предприятии, его торговых точках и его ассортимента через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и Интернет порта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казать о предприятии широкому кругу заинтересованных лиц, дать полную информацию по центральному офису и торговым точкам (адреса, телефоны, время работы, схемы проезда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ть покупателю возможность ознакомиться с ассортиментом и ценами компании в удобной форм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ть менеджерам возможность публиковать новости, информируя покупателей (оптовиков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еспечить возможность заказа покупателем-оптовиком товар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качивание прайс–листа по указанной группе товар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правка текстового сообщения выбранному должностному лицу любым человеком через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рфейс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дение статистики посещаем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ополнительные требования к Интернет портал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дение статистики по просмотру товаров (выяснить – какие группы товаров интересую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ьзователей больше, а какие – меньше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ждый покупатель – оптовик имеет свой пароль, свой прайс, свои полномоч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авторизированный покупатель видит товар, имеющийся на розничных точках, но не может просмотреть его количество. Цену для всех товаров отображать по первому прайсу (чем больше номер прайса, тем меньше его цена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изированный пользователь видит лишь товар на оптовом складе. Также – без конкретизации по количеству. Почему так – рассказано дале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йс должен скачиваться в соответствии с полномочиями пользователя (два предыдущих пункта). Авторизированный пользователь, наделённый правами просмотра количества должен получить прайс с отражёнными остатками по всем имеющимся товара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производить контроль количества запрашиваемого товара и его наличия. Если на остатке значится 10 позиций, а авторизированный пользователь пытается выписать 20, то не выводить ошибку «отсутствует нужное количество», а продолжить оформление заказа. Это сделано в связи с тем, что ассортимент большой и на складе (получатель сформированного заказа) оформят продажу 10 позиций, после чего свяжутся с покупателем, объяснят, что товара не хватает и предложат его аналоги, дабы он добрал до 20 штук. Такова политика предприятия, позволяющая таким образом поднять продаж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цептуальная схема переноса да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713800" cy="59770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цептуальная система базы данных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QL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57480" y="765000"/>
            <a:ext cx="4398840" cy="5904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ункционирование распределенной базы данных 1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300720" y="907920"/>
            <a:ext cx="273528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носимые данные на сторону магазина через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sh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мят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именование номенклатурной позици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личество переданного товар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рана производител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диницы учёт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на отпускна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на закупочна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95280" y="952560"/>
          <a:ext cx="5638680" cy="59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952560"/>
                    <a:ext cx="5638680" cy="59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6372360" y="1052640"/>
            <a:ext cx="252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хема передачи данных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сервера 1С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рвер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 SQL 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755640" y="1700280"/>
          <a:ext cx="6840720" cy="43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700280"/>
                    <a:ext cx="6840720" cy="43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ереносимые справоч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763640" y="907920"/>
          <a:ext cx="6193080" cy="547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907920"/>
                    <a:ext cx="6193080" cy="54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хема работы Интернет порт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539640" y="476280"/>
          <a:ext cx="8136000" cy="626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76280"/>
                    <a:ext cx="8136000" cy="626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1T12:51:40Z</dcterms:created>
  <dc:creator>FOKS</dc:creator>
  <dc:description/>
  <dc:language>en-US</dc:language>
  <cp:lastModifiedBy>FOKS</cp:lastModifiedBy>
  <dcterms:modified xsi:type="dcterms:W3CDTF">2004-06-23T13:48:39Z</dcterms:modified>
  <cp:revision>14</cp:revision>
  <dc:subject/>
  <dc:title>Информационно – программный комплекс  «Студенческий контингент» Пояснительная записка к ВКР 009067</dc:title>
</cp:coreProperties>
</file>