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4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45100-BE4E-4EB4-96E0-A343737FB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44CD6-7591-4FC7-A402-210E21FBE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D43DE-EE61-41D8-9694-B02CBF5BB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8D490-EEFE-444B-B9AF-CBBF1BE3A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D9DFC-EA35-455B-ABE9-CD05B066C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C626D-D263-41E8-8163-FA48CAE99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EEBC8-5918-45BA-983C-AF7277164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57199-5733-4D43-8A58-A3759C3C9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618C0-EBEB-4205-950E-C51FCFDEB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980D4-1914-4C27-AEF0-C20FD7AA6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DC699-3CDF-429E-B95B-AED1862F5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16655-9401-433D-A7A5-EFFC6DB81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DF66E-66CB-4826-900E-529FB2498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0AB9E-F91B-4F4B-8F69-5A12CCDC0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8AF3D-4016-4D7B-8677-17E7A2E82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11CB9-9D3F-48F1-B21B-B71A3D0D7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CBE83-A166-45BE-A3A8-FAE17FB0D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8D3BC-63F2-429A-A839-C306478D3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62DA5-A2D3-4DC0-BA0E-5902FFCA2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94002-2918-4193-837E-C90B60E22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36E09-26FF-47B6-998C-3D2F5135E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AE0C2-8162-4A64-80DF-64CBEEFB2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89E84-A03B-4F0A-874A-5E388A482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B5C95-FBB3-416B-84DE-B23C3BF91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E54E1-CE5C-4B04-BFCD-C7235DADE97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B0AD0-357A-4303-BB0D-4E718E867CD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blog.yarcenter.ru/media/Alex_2/0609/8.jpg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pravmir.ru/uploads/_aat1570_prew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bookin.org.ru/book/675610.jpg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pics.posternazakaz.ru/pnz/product/big/ba3036afcf08c950b39d561e0c54cb7b.jpg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aif.ru/application/public/news/669/59724213ad9c51a6ff50b6699f805d2a_big.jpg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abakanradio.ru/images/3919.jpg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1115640" y="404640"/>
            <a:ext cx="779796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ФЕДЕРАЛЬНЫЙ  ЗАКОН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 социальной защите инвалидов в    Российской Федерации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ыполнил Палагин Александ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3726000"/>
            <a:ext cx="3132000" cy="313200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Специальные рабочие места для трудоустройства инвалидов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834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Специальные рабочие места для трудоустройства инвалидов -рабочие места, требующие дополнительных мер по организации труда, включая адаптацию основного и вспомогательного оборудования, технического и организационного оснащения, дополнительного оснащения и обеспечения техническими приспособлениями с учетом индивидуальных возможностей инвалидов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Минимальное количество специальных рабочих мест для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трудоустройства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инвалидов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устанавливается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органам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исполнительной власти субъектов Российской Федерации для каждого предприятия, учреждения, организации в пределах установленной квоты для приема на работу инвалидов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6" name="" descr="В Свердловской области запустили программу по трудоустройству инвалидов"/>
          <p:cNvPicPr/>
          <p:nvPr/>
        </p:nvPicPr>
        <p:blipFill>
          <a:blip r:embed="rId1"/>
          <a:stretch/>
        </p:blipFill>
        <p:spPr>
          <a:xfrm>
            <a:off x="5580000" y="1484280"/>
            <a:ext cx="2952720" cy="2165400"/>
          </a:xfrm>
          <a:prstGeom prst="rect">
            <a:avLst/>
          </a:prstGeom>
          <a:ln w="0">
            <a:noFill/>
          </a:ln>
        </p:spPr>
      </p:pic>
    </p:spTree>
  </p:cSld>
  <p:transition advTm="10000">
    <p:cover dir="d"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5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500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Материальное обеспечение инвалидов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7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Материальное обеспечение инвалидов включает в себя денежные выплаты по различным основаниям (пенсии, пособия, страховые выплаты при страховании риска нарушения здоровья, выплаты в счет возмещения вреда, причиненного здоровью, и другие     выплаты),     компенсации     в     случаях,     установленных законодательством Российской Федераци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Получение компенсаций и других денежных выплат одного вида не лишает инвалидов права на получение других видов денежных выплат, если у них есть для этого основания, предусмотренные законодательством Российской Федераци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4540320" y="2205000"/>
            <a:ext cx="4603680" cy="345276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wheel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Социально-бытовое обслуживание инвалидов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62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Социально-бытовое обслуживание инвалидов осуществляется в порядке и на основаниях, определяемых органами местного самоуправления с участием общественных объединений инвалидов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Органы исполнительной власти субъектов Российской Федерации и органы местного самоуправления создают специальные службы социального обслуживания инвалидов, в том числе по доставке инвалидам продовольственных и промышленных товаров, и утверждают перечень заболеваний инвалидов, при которых они имеют право на льготное обслуживание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Инвалидам, нуждающимся в постороннем уходе и помощи, предоставляются медицинские и бытовые услуги на дому либо в стационарных учреждениях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5148360" y="1700280"/>
            <a:ext cx="3765600" cy="388944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strips dir="rd"/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0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243" dur="2000" fill="hold"/>
                                        <p:tgtEl>
                                          <p:spTgt spid="2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Санаторно-курортное лечение инвалидов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-181440" y="1413000"/>
            <a:ext cx="482436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Инвалиды и дети-инвалиды имеют право на санаторно-курортное лечение в соответствии с индивидуальной программой реабилитации инвалида на льготных условиях. Инвалиды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группы и дети-инвалиды, нуждающиеся в санаторно-курортном лечении, имеют право на получение на тех же условиях второй путевки для сопровождающего их лиц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Неработающим инвалидам, в том числе находящимся в стационарных учреждениях социального обслуживания, санаторно-курортные путевки выдаются бесплатно органами социальной защиты населения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Работающие инвалиды обеспечиваются санаторно-курортными путевками по месту работы на льготных условиях за счет средств социального страхования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Инвалидам, получившим трудовое увечье или профессиональное заболевание, путевки для санаторно-курортного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лечения предоставляются за счет средств работодателей, обязанных возмещать вред, причиненный работникам в результате увечья, профессионального заболевания либо иного повреждения здоровья, связанного с исполнением работниками трудовых обязанностей.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5" name="" descr="Картинка 3 из 18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859280" y="1484280"/>
            <a:ext cx="3835440" cy="388944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0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7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500"/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Транспортное обслуживание инвалидов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546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Дети-инвалиды, их родители, опекуны, попечители и социальные работники, осуществляющие уход за детьми-инвалидами, а также инвалиды пользуются правом бесплатного проезда на всех видах транспорта общего пользования городского и пригородного сообщения, кроме такс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Инвалидам предоставляется 50-процентная скидка со стоимости проезда на междугородных линиях воздушного, железнодорожного, речного и автомобильного транспорта с 1 октября по 15 мая и один раз (проезд туда и обратно) в другое время года. Инвалидам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и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I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групп и детям-инвалидам предоставляется право бесплатного проезда один раз в год к месту лечения и обратно, если законодательством Российской Федерации не установлены более льготные условия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5219640" y="1700280"/>
            <a:ext cx="3276720" cy="245088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strips dir="rd"/>
  </p:transition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0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8" dur="5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3" dur="500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179280" y="-360"/>
            <a:ext cx="3345120" cy="61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Настоящий Федеральный закон определяет государственную политику в области социальной защиты инвалидов в Российской Федерации, целью которой является обеспечение инвалидам равных с другими гражданами возможностей в реализации гражданских, экономических, политических и других прав и свобод, предусмотренных Конституцией Российской Федерации, а также в соответствии с общепризнанными принципами и нормами международного права и международными договорами Российской Федераци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3708360" y="333360"/>
            <a:ext cx="4929120" cy="5689440"/>
          </a:xfrm>
          <a:prstGeom prst="rect">
            <a:avLst/>
          </a:prstGeom>
          <a:ln w="0">
            <a:noFill/>
          </a:ln>
        </p:spPr>
      </p:pic>
    </p:spTree>
  </p:cSld>
  <p:transition advTm="10000">
    <p:cover dir="d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0" y="0"/>
            <a:ext cx="3672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Инвалид - лицо, которое имеет нарушение здоровья со стойким расстройством функций организма, обусловленное заболеваниями, последствиями травм или дефектами, приводящее к ограничению жизнедеятельности и вызывающее необходимость его социальной защиты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Ограничение жизнедеятельности - полная или частичная утрата лицом способности или возможности осуществлять самообслуживание, самостоятельно передвигаться, ориентироваться, общаться, контролировать свое поведение, обучаться и заниматься трудовой деятельностью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В зависимости от степени расстройства функций организма и ограничения жизнедеятельности лицам, признанным инвалидами, устанавливается группа инвалидности, а лицам в возрасте до 16 лет устанавливается категория "ребенок-инвалид"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Признание лица инвалидом осуществляется Государственной службой медико-социальной экспертизы. Порядок и условия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6" name="" descr="Картинка 25 из 165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708360" y="404640"/>
            <a:ext cx="5148360" cy="464364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split dir="out" orient="horz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3888000" cy="61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ыплата государственного социального пособия неработающим инвалидам детства и детям-инвалидам отныне будет осуществляться в повышенных размера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3924360" y="476280"/>
            <a:ext cx="5191200" cy="5329080"/>
          </a:xfrm>
          <a:prstGeom prst="rect">
            <a:avLst/>
          </a:prstGeom>
          <a:ln w="0">
            <a:noFill/>
          </a:ln>
        </p:spPr>
      </p:pic>
    </p:spTree>
  </p:cSld>
  <p:transition advTm="10000">
    <p:split dir="in" orient="vert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Понятие медико-социальной экспертизы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250560" y="836280"/>
            <a:ext cx="453708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едико-социальная экспертиза - определение в установленном порядке потребностей освидетельствуемого лица в мерах социальной защиты, включая реабилитацию, на основе оценки ограничений жизнедеятельности, вызванных стойким расстройством функций организм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едико-социальная экспертиза осуществляется исходя из комплексной оценки состояния организма на основе анализа клинико-функциональных, социально-бытовых, профессионально-трудовых, психологических данных освидетельствуемого лица с использованием классификаций и критериев, разрабатываемых и утверждаемых в порядке, определяемом Правительством Российской Федераци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4932360" y="907920"/>
            <a:ext cx="3681360" cy="516744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checker dir="vert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Понятие реабилитации инвалидов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24000" y="1341360"/>
            <a:ext cx="431928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Реабилитация инвалидов - система медицинских, психологических, педагогических, социально-экономических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мероприятий, направленных на устранение или возможно более полную компенсацию ограничений жизнедеятельности, вызванных нарушением здоровья со стойким расстройством функций организма. Целью реабилитации являются восстановление социального статуса инвалида, достижение им материальной независимости и его социальная адаптация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4" name="" descr="Картинка 3 из 1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148360" y="1484280"/>
            <a:ext cx="3354120" cy="4608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7" dur="5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2" dur="5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. Обеспечение жизнедеятельности инвалидов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78920" y="1773360"/>
            <a:ext cx="4969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Оказание квалифицированной медицинской помощи инвалидам, включая лекарственное обеспечение, осуществляется бесплатно или на льготных условиях в соответствии с законодательством Российской Федерации и законодательством субъектов Российской Федераци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Порядок и условия оказания квалифицированной медицинской помощи различным категориям инвалидов определяются Правительством Российской Федераци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Медицинская реабилитация инвалидов проводится в рамках федеральной базовой программы обязательного медицинского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страхования населения Российской Федерации за счет средств федерального и территориальных фондов обязательного медицинского страхования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7" name="" descr="Картинка 8 из 722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435640" y="1628640"/>
            <a:ext cx="3124080" cy="468180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wipe dir="d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898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898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898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898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898" fill="hold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Обеспечение инвалидов жилой площадью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25916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Инвалиды и семьи, имеющие детей инвалидов, нуждающиеся в улучшении жилищных условий, принимаются на учет и обеспечиваются жилыми помещениями с учетом льгот, предусмотренных законодательством Российской Федерации и законодательством субъектов Российской Федераци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Жилые помещения предоставляются инвалидам, семьям, имеющим детей-инвалидов, с учетом состояния здоровья и других заслуживающих внимания обстоятельств. Инвалиды имеют право на дополнительную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0" name="" descr="Картинка 26 из 277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03640" y="1700280"/>
            <a:ext cx="3571920" cy="380988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strips dir="ru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Воспитание и обучение детей-инвалидов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27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Образовательные учреждения совместно с органами социальной защиты населения и органами здравоохранения обеспечивают дошкольное, внешкольное воспитание и образование детей-инвалидов, получение инвалидами среднего общего образования, среднего профессионального и высшего профессионального образования в соответствии с индивидуальной программой реабилитации инвалид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Детям-инвалидам дошкольного возраста   предоставляются необходимые реабилитационные меры и создаются условия для пребывания в детских дошкольных учреждениях общего типа. Для детей-инвалидов, состояние здоровья которых исключает возможность их пребывания в детских дошкольных учреждениях общего типа, создаются специальные дошкольные учреждения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3" name="" descr="Картинка 10 из 57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284720" y="1557360"/>
            <a:ext cx="4680000" cy="413064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wedge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768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9" dur="768" fill="hold"/>
                                        <p:tgtEl>
                                          <p:spTgt spid="23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1" dur="768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3" dur="768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3T10:39:11Z</dcterms:created>
  <dc:creator>Класс 209</dc:creator>
  <dc:description/>
  <dc:language>en-US</dc:language>
  <cp:lastModifiedBy>Класс 209</cp:lastModifiedBy>
  <dcterms:modified xsi:type="dcterms:W3CDTF">2010-05-03T13:49:59Z</dcterms:modified>
  <cp:revision>2</cp:revision>
  <dc:subject/>
  <dc:title>Слайд 1</dc:title>
</cp:coreProperties>
</file>