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584-B608-4779-A5BF-FF87837F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F46D-128E-43A9-967B-AF612F19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6F1-5D54-4420-804F-D244CEFB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3BE-CCEE-423D-BAE0-3E787262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245F-5556-4F45-82FE-20B247A0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266-BBAE-40B3-B167-9E0C05C9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6BF-A16F-4FCB-B896-62C31E1E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6CAC-E773-439F-B95B-4DEC5092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043-E8ED-47FB-8D62-3E1C4D20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BE9-0908-4D6A-8E98-51350D5C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3F7-AEFD-4CD1-B751-D756C885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8DD-FBB1-4AFB-9A38-A91E362F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C604-194F-4451-A2D7-2A7EDDF904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772400" cy="1285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Государственное регулиров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71680" y="2214720"/>
            <a:ext cx="8286480" cy="16185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мплекс мер законодательных, исполнительных и судебных органов власти, а также контрольных функций, осуществляемых на основе нормативных правовых актов государственными учреждениями и общественными организациями в целях стабилизации существующей социально-экономическ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285840" y="5286240"/>
            <a:ext cx="27860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создание условий цивилизованного функционирования ры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571920" y="5214960"/>
            <a:ext cx="25718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стратегическое планирование науки и научно-технического прогр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6500880" y="5286240"/>
            <a:ext cx="2428920" cy="916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 решение макроэкономических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трелка вниз 8"/>
          <p:cNvSpPr/>
          <p:nvPr/>
        </p:nvSpPr>
        <p:spPr>
          <a:xfrm>
            <a:off x="4500720" y="1571760"/>
            <a:ext cx="428400" cy="642960"/>
          </a:xfrm>
          <a:prstGeom prst="downArrow">
            <a:avLst>
              <a:gd name="adj1" fmla="val 50000"/>
              <a:gd name="adj2" fmla="val 5002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3786120" y="4214880"/>
            <a:ext cx="2143080" cy="5205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Прямая со стрелкой 16"/>
          <p:cNvCxnSpPr>
            <a:stCxn id="47" idx="2"/>
            <a:endCxn id="44" idx="0"/>
          </p:cNvCxnSpPr>
          <p:nvPr/>
        </p:nvCxnSpPr>
        <p:spPr>
          <a:xfrm>
            <a:off x="4857480" y="4735440"/>
            <a:ext cx="720" cy="47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9" name="Прямая соединительная линия 22"/>
          <p:cNvSpPr/>
          <p:nvPr/>
        </p:nvSpPr>
        <p:spPr>
          <a:xfrm>
            <a:off x="1643040" y="4572000"/>
            <a:ext cx="2143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26"/>
          <p:cNvSpPr/>
          <p:nvPr/>
        </p:nvSpPr>
        <p:spPr>
          <a:xfrm>
            <a:off x="5929200" y="4572000"/>
            <a:ext cx="18576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30"/>
          <p:cNvCxnSpPr/>
          <p:nvPr/>
        </p:nvCxnSpPr>
        <p:spPr>
          <a:xfrm flipH="1">
            <a:off x="1641240" y="4573440"/>
            <a:ext cx="216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32"/>
          <p:cNvCxnSpPr/>
          <p:nvPr/>
        </p:nvCxnSpPr>
        <p:spPr>
          <a:xfrm flipH="1">
            <a:off x="7786440" y="457308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0004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мешательство государства в сферу предпринимательской деятельности хозяйствующих субъектов обусловлено следующими обстоятельств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214200" y="3286080"/>
            <a:ext cx="4572000" cy="1221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упреждением экологических катастроф и решением экологических проблем, порождаемых свободой выбора субъектами сфер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ономическо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5786280" y="3571920"/>
            <a:ext cx="335772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рьбой с криминализацией предпринимательски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643800" y="5626080"/>
            <a:ext cx="2500200" cy="1221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твращением экономических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изис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социальных потряс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428760" y="5626080"/>
            <a:ext cx="2428920" cy="1221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троле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 использованием общенациональ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3643200" y="5627520"/>
            <a:ext cx="2500560" cy="1221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циально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щитой наименее обеспеченных слоев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низ 9"/>
          <p:cNvSpPr/>
          <p:nvPr/>
        </p:nvSpPr>
        <p:spPr>
          <a:xfrm>
            <a:off x="1428840" y="278604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низ 10"/>
          <p:cNvSpPr/>
          <p:nvPr/>
        </p:nvSpPr>
        <p:spPr>
          <a:xfrm>
            <a:off x="1357200" y="464328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11"/>
          <p:cNvSpPr/>
          <p:nvPr/>
        </p:nvSpPr>
        <p:spPr>
          <a:xfrm>
            <a:off x="7643880" y="2714760"/>
            <a:ext cx="428400" cy="64296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12"/>
          <p:cNvSpPr/>
          <p:nvPr/>
        </p:nvSpPr>
        <p:spPr>
          <a:xfrm>
            <a:off x="4929120" y="464328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13"/>
          <p:cNvSpPr/>
          <p:nvPr/>
        </p:nvSpPr>
        <p:spPr>
          <a:xfrm>
            <a:off x="7500960" y="471492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500040" y="1643040"/>
            <a:ext cx="8286840" cy="824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здание определенных условий, обеспечивающих нормальное функционирование экономики в целом и стабильное участие предпринимателей страны в международном разделении труда и получение от этого оптимальных вы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низ 15"/>
          <p:cNvSpPr/>
          <p:nvPr/>
        </p:nvSpPr>
        <p:spPr>
          <a:xfrm>
            <a:off x="4572000" y="114300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6"/>
          <p:cNvSpPr/>
          <p:nvPr/>
        </p:nvSpPr>
        <p:spPr>
          <a:xfrm>
            <a:off x="785880" y="4287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особы государственного контроля бизн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8"/>
          <p:cNvSpPr/>
          <p:nvPr/>
        </p:nvSpPr>
        <p:spPr>
          <a:xfrm>
            <a:off x="1071720" y="3500280"/>
            <a:ext cx="2571480" cy="6429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искальная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9"/>
          <p:cNvSpPr/>
          <p:nvPr/>
        </p:nvSpPr>
        <p:spPr>
          <a:xfrm>
            <a:off x="5786280" y="3571920"/>
            <a:ext cx="2786400" cy="6429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инансовые 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214200" y="4643280"/>
            <a:ext cx="4714920" cy="20408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деление бюджетных ассигнований на финансирование целевых инвестиционных програ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менение налоговых ставок на инвестируемую прибы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неврирование уровнем и условиями процента на государственный кред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5429160" y="4786200"/>
            <a:ext cx="3571920" cy="1797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оставление прямых кредитов и субсид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нижение ставки налогообложения организаций, кредитующих малые предприятия, предоставление им со стороны местной администрацией финансовых гаран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12"/>
          <p:cNvSpPr/>
          <p:nvPr/>
        </p:nvSpPr>
        <p:spPr>
          <a:xfrm>
            <a:off x="4000680" y="1000080"/>
            <a:ext cx="1928520" cy="7146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тентн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1714680" y="2143080"/>
            <a:ext cx="6072120" cy="8240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граничению срока жизни пат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уществлению принудительного лицензирования новых патентов за относительно умеренную лицензионную пл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низ 17"/>
          <p:cNvSpPr/>
          <p:nvPr/>
        </p:nvSpPr>
        <p:spPr>
          <a:xfrm>
            <a:off x="2143080" y="4214880"/>
            <a:ext cx="285840" cy="4284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 вниз 18"/>
          <p:cNvSpPr/>
          <p:nvPr/>
        </p:nvSpPr>
        <p:spPr>
          <a:xfrm>
            <a:off x="7143840" y="428616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 вниз 19"/>
          <p:cNvSpPr/>
          <p:nvPr/>
        </p:nvSpPr>
        <p:spPr>
          <a:xfrm>
            <a:off x="4786200" y="178596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57268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авовое регулирование предприниматель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3286080" y="1214280"/>
            <a:ext cx="228600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инцип зако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214200" y="1214280"/>
            <a:ext cx="21430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инцип целесообраз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6357960" y="1214280"/>
            <a:ext cx="25718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инцип взаимной ответств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214200" y="2571840"/>
            <a:ext cx="2428920" cy="733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кон РК «О частном предпринимательстве» от 31 января 2006 г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3643200" y="2500200"/>
            <a:ext cx="5214960" cy="158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ализация права на свободу предпринимательской деятельности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гарантируется нормами действующего законодательств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виде определения пределов правового регулирования частной предпринимательской деятельности и установления адресованных органам государственной власти и управления запретов на ограничение свободы предприниматель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0" y="3714840"/>
            <a:ext cx="2857680" cy="733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кон РК от 19 июня 1997 года «Об индивидуальном предпринимательств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072040" y="4714920"/>
            <a:ext cx="3786120" cy="733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каз президента РК от 27 апреля 1998 года «О защите прав граждан и юридических лиц на свободу предпринимательской деятельно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3500280" y="5857920"/>
            <a:ext cx="3071880" cy="733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кон от 17 апреля 1995 года № 2200 «О лицензировани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право 13"/>
          <p:cNvSpPr/>
          <p:nvPr/>
        </p:nvSpPr>
        <p:spPr>
          <a:xfrm rot="10800000">
            <a:off x="2857680" y="278604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14"/>
          <p:cNvSpPr/>
          <p:nvPr/>
        </p:nvSpPr>
        <p:spPr>
          <a:xfrm>
            <a:off x="6072120" y="421488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низ 15"/>
          <p:cNvSpPr/>
          <p:nvPr/>
        </p:nvSpPr>
        <p:spPr>
          <a:xfrm rot="2664000">
            <a:off x="3034800" y="4356000"/>
            <a:ext cx="358920" cy="80496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низ 16"/>
          <p:cNvSpPr/>
          <p:nvPr/>
        </p:nvSpPr>
        <p:spPr>
          <a:xfrm>
            <a:off x="4500720" y="4214880"/>
            <a:ext cx="357120" cy="150012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вниз 17"/>
          <p:cNvSpPr/>
          <p:nvPr/>
        </p:nvSpPr>
        <p:spPr>
          <a:xfrm rot="5400000">
            <a:off x="3107520" y="3607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19"/>
          <p:cNvCxnSpPr/>
          <p:nvPr/>
        </p:nvCxnSpPr>
        <p:spPr>
          <a:xfrm flipH="1">
            <a:off x="1571760" y="785880"/>
            <a:ext cx="64332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21"/>
          <p:cNvCxnSpPr/>
          <p:nvPr/>
        </p:nvCxnSpPr>
        <p:spPr>
          <a:xfrm flipH="1">
            <a:off x="4284360" y="78588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23"/>
          <p:cNvCxnSpPr/>
          <p:nvPr/>
        </p:nvCxnSpPr>
        <p:spPr>
          <a:xfrm>
            <a:off x="6215040" y="857160"/>
            <a:ext cx="128664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TextBox 24"/>
          <p:cNvSpPr/>
          <p:nvPr/>
        </p:nvSpPr>
        <p:spPr>
          <a:xfrm>
            <a:off x="0" y="5411880"/>
            <a:ext cx="3143160" cy="13726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кон РК «О государственной поддержке малого предпринимательства»  от 19 июня 1997 года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3357720" y="3000240"/>
            <a:ext cx="2786040" cy="119124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Государственная поддержка малого и среднего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357120" y="857160"/>
            <a:ext cx="2643120" cy="794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рганизация подготовки, переподготовки и повышение квалификации кад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6572160" y="928800"/>
            <a:ext cx="2286000" cy="2225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здание льготных условий использования государственных финансовых, статистических, материально-технических и информационных ресурсов, а также научно-технических разработок и технолог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285840" y="2286000"/>
            <a:ext cx="2286000" cy="15858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становление упрощённого порядка государственной регистрации, лицензирования  деятельности, сертификации  проду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3643200" y="214200"/>
            <a:ext cx="2071800" cy="2225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становление правового режима благоприятствования для субъектов малого предпринимательства, включающего в себя льготный режим налогообложения, уплаты таможенных пошл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4214880" y="4929120"/>
            <a:ext cx="1928880" cy="1159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здание системы привлечения и использования инвестиций, включая иностр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785880" y="4429080"/>
            <a:ext cx="2714400" cy="1798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ддержка внешнеэкономической деятельности субъектов малого предпринимательства, включая развитие их торговых, научно-технических, производственных и иных связей с зарубежными партнёр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7072200" y="4000680"/>
            <a:ext cx="1571760" cy="2225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нятие специальных программ кредитования субъектов малого предпринимательства с определением финансовых источ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714240" y="1643040"/>
          <a:ext cx="7643880" cy="4857840"/>
        </p:xfrm>
        <a:graphic>
          <a:graphicData uri="http://schemas.openxmlformats.org/drawingml/2006/table">
            <a:tbl>
              <a:tblPr/>
              <a:tblGrid>
                <a:gridCol w="1836720"/>
                <a:gridCol w="1362240"/>
                <a:gridCol w="2222640"/>
                <a:gridCol w="2222280"/>
              </a:tblGrid>
              <a:tr h="441360">
                <a:tc rowSpan="2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1 апреля 2010г.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% к 1 апреля 2009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нварь-март 2010г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% к январю-марту 2009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активных субъектов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енность занят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уск продукц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в сопоставимых ценах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Казах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молин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юбин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матин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ырау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адно-Казахстан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амбыл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агандин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танай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ызылордин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нгистау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жно-Казахстан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влодар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веро-Казахстан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очно-Казахстан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Аста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Алм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Box 4"/>
          <p:cNvSpPr/>
          <p:nvPr/>
        </p:nvSpPr>
        <p:spPr>
          <a:xfrm>
            <a:off x="785880" y="571680"/>
            <a:ext cx="7572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алого и среднего предпринимательства в Республике Казах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6:10:43Z</dcterms:created>
  <dc:creator>Настя</dc:creator>
  <dc:description/>
  <dc:language>en-US</dc:language>
  <cp:lastModifiedBy>Admin</cp:lastModifiedBy>
  <dcterms:modified xsi:type="dcterms:W3CDTF">2011-03-10T07:26:06Z</dcterms:modified>
  <cp:revision>43</cp:revision>
  <dc:subject/>
  <dc:title>Слайд 1</dc:title>
</cp:coreProperties>
</file>